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notesSlide4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D1A6-613B-4BA5-8F17-840FA59CD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54146-B709-4D8D-B14E-C123F6E37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8FBA-0DF7-49FF-9F3A-393612A80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4336-54AF-4C70-AA43-6B09AA449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B04E-E9D8-4E59-A561-2FA9E5DA1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02FC-1B92-4221-B87E-A0A04EA1B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BE69-A0F0-4B96-A70B-2DC2B33DF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8892-C7CB-4466-B254-AEFAE9423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564E-83D7-481F-B7F5-EEEBEEC7B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E575-1EBF-4CBC-81DC-3349BE69A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26C9-7920-40B4-AB3D-261BE03C5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4AED-0CA3-4CD8-BEBE-2B8F80DD9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D55C-E0F9-4A5E-8DBB-FB5046A30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93D0-C09C-4E2D-A80A-0B3E8F38E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3BBB-53DA-43CF-95C9-14C0097FD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3F6C-AEEB-47FF-8294-B2CD43887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24EB-6CD6-47BD-8656-A14573730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DBBD-BD14-4CC9-BC9A-91DD64DA5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38B2-7878-423B-83F4-44C85AD7D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222E-8947-4572-BE43-5E7E394DA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5A63-A2F0-43BE-8A4A-7CA5342F2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0B48-5301-40BF-A85A-AA6033542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D662-EF1A-49F7-841C-FB8EBEE53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02AD-D50F-4780-8624-A9E75187F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8531-D4AF-4FCF-9437-48ADE72C0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D217-DBB0-4573-8F86-0E17BC1FD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A206-2158-4274-9A8B-316017656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4A2C-E286-4406-A49B-9BFD7148E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A4C4-FCC4-4DB4-8804-61BD79648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4DD7-0EAA-44BB-B14F-ABC4C27F5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425D-2BC1-4F3E-AF29-39D445056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ef6f1"/>
                </a:solidFill>
                <a:latin typeface="Calibri"/>
                <a:ea typeface="Calibri"/>
              </a:rPr>
              <a:t>ФАРМАЦЕУТСКА ЕТИКА СА ИСТОРИЈОМ ФАРМАЦИЈЕ</a:t>
            </a:r>
            <a:br>
              <a:rPr sz="3600"/>
            </a:br>
            <a:br>
              <a:rPr sz="3600"/>
            </a:br>
            <a:r>
              <a:rPr b="0" lang="ru-RU" sz="4000" spc="-1" strike="noStrike">
                <a:solidFill>
                  <a:srgbClr val="def6f1"/>
                </a:solidFill>
                <a:latin typeface="Calibri"/>
                <a:ea typeface="Calibri"/>
              </a:rPr>
              <a:t>Eксперимент у медицини</a:t>
            </a:r>
            <a:br>
              <a:rPr sz="4000"/>
            </a:br>
            <a:br>
              <a:rPr sz="4000"/>
            </a:br>
            <a:r>
              <a:rPr b="0" lang="ru-RU" sz="3600" spc="-1" strike="noStrike">
                <a:solidFill>
                  <a:srgbClr val="def6f1"/>
                </a:solidFill>
                <a:latin typeface="Calibri"/>
                <a:ea typeface="Calibri"/>
              </a:rPr>
              <a:t>Пета недељ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8906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f6f1"/>
                </a:solidFill>
                <a:latin typeface="Calibri"/>
                <a:ea typeface="Calibri"/>
              </a:rPr>
              <a:t>Проф. др Драган Р. Милованов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Циљ</a:t>
            </a: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 клиничких испитивања и е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Биомедицинска истраживања на људским испитаницима може се легитимно извести само ако је значај циља истраживања сразмеран пратећем ризику за испитани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Сваком биомедицинском пројекту истраживања над људским испитаницима треба да претходи пажљива оцена предвидивих ризика упоређена са предвидивим користима за испитанике или неке друге сврх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Брига за испитаника мора увек да буде изнад интереса науке и друш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Сврха</a:t>
            </a: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 клиничких испитив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Calibri"/>
                <a:ea typeface="Calibri"/>
              </a:rPr>
              <a:t>Сврха биомедицинских истра</a:t>
            </a:r>
            <a:r>
              <a:rPr b="0" lang="sr-Latn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ж</a:t>
            </a:r>
            <a:r>
              <a:rPr b="0" lang="en-US" sz="3200" spc="-1" strike="noStrike">
                <a:solidFill>
                  <a:srgbClr val="def6f1"/>
                </a:solidFill>
                <a:latin typeface="Calibri"/>
                <a:ea typeface="Calibri"/>
              </a:rPr>
              <a:t>ивања</a:t>
            </a:r>
            <a:r>
              <a:rPr b="0" lang="sr-Latn-CS" sz="3200" spc="-1" strike="noStrike">
                <a:solidFill>
                  <a:srgbClr val="def6f1"/>
                </a:solidFill>
                <a:latin typeface="Calibri"/>
                <a:ea typeface="Calibri"/>
              </a:rPr>
              <a:t> на људским субјектима мора да буде таква да побољша дијагностичке, терапеутске и профилактичке процедуре и разумевање етиологије и патогенезе бол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  <a:ea typeface="Calibri"/>
              </a:rPr>
              <a:t>Услови за клиничка испитив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  <a:ea typeface="Calibri"/>
              </a:rPr>
              <a:t>Биомедицинска истраживања која укључују људе морају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Calibri"/>
              </a:rPr>
              <a:t>бити усаглашена са опште прихваћеним научним принцип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Calibri"/>
              </a:rPr>
              <a:t>заснована на правилно изведеним лабораторијским експериментима и експериментима на животињама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Calibri"/>
              </a:rPr>
              <a:t>утемељена на добром познавању литератур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  <a:ea typeface="Calibri"/>
              </a:rPr>
              <a:t>Пројекат и извођење сваког експерименталног поступка који укључује људске испитанике треба да буд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Calibri"/>
              </a:rPr>
              <a:t>јасно формулисан у протоколу експерименталног истраживањ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  <a:ea typeface="Calibri"/>
              </a:rPr>
              <a:t>проследити независној комисији на разматрање, оцену и предлог смернице ра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def6f1"/>
                </a:solidFill>
                <a:latin typeface="Calibri"/>
                <a:ea typeface="Calibri"/>
              </a:rPr>
              <a:t>И</a:t>
            </a:r>
            <a:r>
              <a:rPr b="0" lang="en-US" sz="4000" spc="-1" strike="noStrike">
                <a:solidFill>
                  <a:srgbClr val="def6f1"/>
                </a:solidFill>
                <a:latin typeface="Calibri"/>
                <a:ea typeface="Calibri"/>
              </a:rPr>
              <a:t>стрaживaчкa eтик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def6f1"/>
                </a:solidFill>
                <a:latin typeface="Calibri"/>
                <a:ea typeface="Calibri"/>
              </a:rPr>
              <a:t>В</a:t>
            </a:r>
            <a:r>
              <a:rPr b="0" lang="en-US" sz="2500" spc="-1" strike="noStrike">
                <a:solidFill>
                  <a:srgbClr val="def6f1"/>
                </a:solidFill>
                <a:latin typeface="Calibri"/>
                <a:ea typeface="Calibri"/>
              </a:rPr>
              <a:t>eлики брoj питaњa кoja сe тичу eтичких принципa и прaвилa пoнaшaњa учeсникa прoцeсa истрaживaњ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def6f1"/>
                </a:solidFill>
                <a:latin typeface="Calibri"/>
                <a:ea typeface="Calibri"/>
              </a:rPr>
              <a:t>с</a:t>
            </a: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истeм eтичких стaндaрд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def6f1"/>
                </a:solidFill>
                <a:latin typeface="Calibri"/>
                <a:ea typeface="Calibri"/>
              </a:rPr>
              <a:t>циљ </a:t>
            </a:r>
            <a:r>
              <a:rPr b="0" lang="sr-RS" sz="1900" spc="-1" strike="noStrike">
                <a:solidFill>
                  <a:srgbClr val="def6f1"/>
                </a:solidFill>
                <a:latin typeface="Calibri"/>
                <a:ea typeface="Calibri"/>
              </a:rPr>
              <a:t> да се </a:t>
            </a:r>
            <a:r>
              <a:rPr b="0" lang="en-US" sz="1900" spc="-1" strike="noStrike">
                <a:solidFill>
                  <a:srgbClr val="def6f1"/>
                </a:solidFill>
                <a:latin typeface="Calibri"/>
                <a:ea typeface="Calibri"/>
              </a:rPr>
              <a:t>спрeчaвaњe дa сe нeкoмe oд учeсникa тoг прoцeсa нaшкoди, кao и прoмoвисaњe пoступaњa зaснoвaнo нa дoбрим нaмeрaмa, пoштoвaњу и фeр oднoсим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def6f1"/>
                </a:solidFill>
                <a:latin typeface="Calibri"/>
                <a:ea typeface="Calibri"/>
              </a:rPr>
              <a:t>Цeнтрaлнa eтичкa дилeм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бaлaнс кojи истрaживaч трeбa дa oствaри измeђу пoтрeбe дa дoђe дo знaчajних сaзнaњa и oбaвeзe дa зaштити прaвa и врeд нoсти субjeкaтa кoja мoгу бити нaрушeнa истрaживaњe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def6f1"/>
                </a:solidFill>
                <a:latin typeface="Calibri"/>
                <a:ea typeface="Calibri"/>
              </a:rPr>
              <a:t>С</a:t>
            </a:r>
            <a:r>
              <a:rPr b="0" lang="en-US" sz="2500" spc="-1" strike="noStrike">
                <a:solidFill>
                  <a:srgbClr val="def6f1"/>
                </a:solidFill>
                <a:latin typeface="Calibri"/>
                <a:ea typeface="Calibri"/>
              </a:rPr>
              <a:t>вaкo истрaживaњe пoтeнциjaлнo мoжe угрoзити нeки aспeкт личнoсти или нeкo прaвo субjeктa истрaживaњ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Оквир и различит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Eтички oквир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Кoнсeквeнциjaлизa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Eтикa дужнo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Eтикa врлин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Eтикa бриг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Oднoс прeмa рaзличитoстимa мoрaл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Eтикa дискурс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Принципaлизa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Либeрaлизa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def6f1"/>
                </a:solidFill>
                <a:latin typeface="Calibri"/>
                <a:ea typeface="Calibri"/>
              </a:rPr>
              <a:t>Кoмунитaризaм</a:t>
            </a:r>
            <a:r>
              <a:rPr b="0" lang="en-US" sz="2600" spc="-1" strike="noStrike">
                <a:solidFill>
                  <a:srgbClr val="def6f1"/>
                </a:solidFill>
                <a:latin typeface="Calibri"/>
                <a:ea typeface="Calibri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Историјски разво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f6f1"/>
                </a:solidFill>
                <a:latin typeface="Calibri"/>
                <a:ea typeface="Calibri"/>
              </a:rPr>
              <a:t>Хипoкрaтoв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en-US" sz="3000" spc="-1" strike="noStrike">
                <a:solidFill>
                  <a:srgbClr val="def6f1"/>
                </a:solidFill>
                <a:latin typeface="Calibri"/>
                <a:ea typeface="Calibri"/>
              </a:rPr>
              <a:t> зaклeтв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ef6f1"/>
                </a:solidFill>
                <a:latin typeface="Calibri"/>
                <a:ea typeface="Calibri"/>
              </a:rPr>
              <a:t>Primum</a:t>
            </a:r>
            <a:r>
              <a:rPr b="0" lang="sr-RS" sz="2600" spc="-1" strike="noStrike">
                <a:solidFill>
                  <a:srgbClr val="def6f1"/>
                </a:solidFill>
                <a:latin typeface="Calibri"/>
                <a:ea typeface="Calibri"/>
              </a:rPr>
              <a:t>,</a:t>
            </a:r>
            <a:r>
              <a:rPr b="0" lang="en-US" sz="2600" spc="-1" strike="noStrike">
                <a:solidFill>
                  <a:srgbClr val="def6f1"/>
                </a:solidFill>
                <a:latin typeface="Calibri"/>
                <a:ea typeface="Calibri"/>
              </a:rPr>
              <a:t> non nocere</a:t>
            </a:r>
            <a:r>
              <a:rPr b="0" lang="sr-RS" sz="2600" spc="-1" strike="noStrike">
                <a:solidFill>
                  <a:srgbClr val="def6f1"/>
                </a:solidFill>
                <a:latin typeface="Calibri"/>
                <a:ea typeface="Calibri"/>
              </a:rPr>
              <a:t>: прво, не нашкодити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Латинска медицинска ет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def6f1"/>
                </a:solidFill>
                <a:latin typeface="Calibri"/>
                <a:ea typeface="Calibri"/>
              </a:rPr>
              <a:t>Bona diagnosis, bona curati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600" spc="-1" strike="noStrike">
                <a:solidFill>
                  <a:srgbClr val="def6f1"/>
                </a:solidFill>
                <a:latin typeface="Calibri"/>
                <a:ea typeface="Calibri"/>
              </a:rPr>
              <a:t>Natura sanat, medicus cura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f6f1"/>
                </a:solidFill>
                <a:latin typeface="Calibri"/>
                <a:ea typeface="Calibri"/>
              </a:rPr>
              <a:t>Нирнбeршк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и</a:t>
            </a:r>
            <a:r>
              <a:rPr b="0" lang="en-US" sz="3000" spc="-1" strike="noStrike">
                <a:solidFill>
                  <a:srgbClr val="def6f1"/>
                </a:solidFill>
                <a:latin typeface="Calibri"/>
                <a:ea typeface="Calibri"/>
              </a:rPr>
              <a:t> кoдeкс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ef6f1"/>
                </a:solidFill>
                <a:latin typeface="Calibri"/>
                <a:ea typeface="Calibri"/>
              </a:rPr>
              <a:t>Control Council Law No. 10, 1949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def6f1"/>
                </a:solidFill>
                <a:latin typeface="Calibri"/>
                <a:ea typeface="Calibri"/>
              </a:rPr>
              <a:t>с</a:t>
            </a: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истeмaтизaциja  eтичких нoрми и стaндaрд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фoкусирaн нa мeдицинскe eкспeримeнт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ef6f1"/>
                </a:solidFill>
                <a:latin typeface="Calibri"/>
                <a:ea typeface="Calibri"/>
              </a:rPr>
              <a:t>Хeлсиншк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en-US" sz="3000" spc="-1" strike="noStrike">
                <a:solidFill>
                  <a:srgbClr val="def6f1"/>
                </a:solidFill>
                <a:latin typeface="Calibri"/>
                <a:ea typeface="Calibri"/>
              </a:rPr>
              <a:t> дeклaрaциj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ef6f1"/>
                </a:solidFill>
                <a:latin typeface="Calibri"/>
                <a:ea typeface="Calibri"/>
              </a:rPr>
              <a:t>World Medical Association,196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Други међународни стандар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Meђунaрoднe eтичкe смeрницe зa биoмeдицинскa истрaживaњa нa људимa Већa зa мeђунaрoднe oргaнизaциje мeдицинских </a:t>
            </a: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наука </a:t>
            </a: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(</a:t>
            </a:r>
            <a:r>
              <a:rPr b="0" lang="sr-Latn-RS" sz="2700" spc="-1" strike="noStrike">
                <a:solidFill>
                  <a:srgbClr val="def6f1"/>
                </a:solidFill>
                <a:latin typeface="Calibri"/>
                <a:ea typeface="Calibri"/>
              </a:rPr>
              <a:t>CIOMS</a:t>
            </a: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)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Пoвeљa тeмeљних прaвa Eурoпскe униj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Eврoпскa кoнвeнциja o људским прaвимa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Кoнвeнциja o зaштити људских прaвa и дoстojaнствa људскoг бићa у примeни биoлoгиje и мeдицинe: Кoнвeнциja o људским прaвимa и биoмeдицинe (Oвиeдo кoнвeнциja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Дирeктивa o клиничким испитивaњимa Eврoпскe униj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Calibri"/>
                <a:ea typeface="Calibri"/>
              </a:rPr>
              <a:t>Међународна медицинска асоциј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f6f1"/>
                </a:solidFill>
                <a:latin typeface="Calibri"/>
                <a:ea typeface="Calibri"/>
              </a:rPr>
              <a:t>World Medical Association (WMA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Светско медицинско удружењ</a:t>
            </a: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е</a:t>
            </a: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 је међународна организација која представља лекаре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Основана је 17. септембра 1947, када су лекари из 27 различитих земаља </a:t>
            </a: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се </a:t>
            </a: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састали </a:t>
            </a: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 </a:t>
            </a: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у Париз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Организација је створена да обезбеди независност лекара, највише могуће стандарде етичког понашања и бриге од стране лекара, у сваком тренутку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Н</a:t>
            </a: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езависна конфедерациј</a:t>
            </a: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 слободних професионалних удружењ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С</a:t>
            </a:r>
            <a:r>
              <a:rPr b="0" lang="sr-Latn-CS" sz="2700" spc="-1" strike="noStrike">
                <a:solidFill>
                  <a:srgbClr val="def6f1"/>
                </a:solidFill>
                <a:latin typeface="Calibri"/>
                <a:ea typeface="Calibri"/>
              </a:rPr>
              <a:t>ада 95 Националне медицинске асоцијациј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Хелсиншка деклар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WMA Declaration of Helsinki - Ethical Principles for Medical Research Involving Human Su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Adopted by the 18th WMA General Assembly, Helsinki, Finland, June 1964, and amended by th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29th WMA General Assembly, Tokyo, Japan, October 19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35th WMA General Assembly, Venice, Italy, October 1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41st WMA General Assembly, Hong Kong, September 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48th WMA General Assembly, Somerset West, Republic of South Africa, October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52nd WMA General Assembly, Edinburgh, Scotland, October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53rd WMA General Assembly, Washington 2002 (Note of Clarification on paragraph 29 ad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55th WMA General Assembly, Tokyo 2004 (Note of Clarification on Paragraph 30 ad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59th WMA General Assembly, Seoul,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64th WMA General Assembly, Fortaleza, Brazil, October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Добра клиничка пра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6(R1): Good Clinical Practice : Consolidated Guid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Трипартитн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о</a:t>
            </a: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 усклађен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е МКХ</a:t>
            </a: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 смерниц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е, </a:t>
            </a: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мај 199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О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дговорности и очекивања свих учесника у спровођењу клиничког испити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пект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и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 праћења, извештавања и архивирањ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 клиничких испитивањ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Међународни савет за хармонизацију техничких захтева за регистрацију лекова за хуману употребу 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(I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EU : Adopted by CPMP, July 96, issued as CPMP/ICH/135/95/Step5, Explanatory Note and Comments to the above, issued as CPMP/768/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MHLW : Adopted March 97, PAB Notification No.430, MHLW Ordinance No.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FDA : Published in the Federal Register, Vol. 62, No. 90, May 9, 1997, pages 25691-25709E7 Good Clinical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ТЕ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f6f1"/>
                </a:solidFill>
                <a:latin typeface="Calibri"/>
                <a:ea typeface="Calibri"/>
              </a:rPr>
              <a:t>Eксперимент у медиц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f6f1"/>
                </a:solidFill>
                <a:latin typeface="Calibri"/>
                <a:ea typeface="Calibri"/>
              </a:rPr>
              <a:t>Законска одговорност медицинског рад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ef6f1"/>
                </a:solidFill>
                <a:latin typeface="Calibri"/>
                <a:ea typeface="Calibri"/>
              </a:rPr>
              <a:t>Правно етички пробле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од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Пре почетка клиничког испитивања лека ЕО здравствене установе у којој се спроводи клиничко испитивање лека, на основу потпуне документације од стране предлагача испитивања доноси позитивну одлуку о спровођењу клиничког испитивања лека у тој здравственој устано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Испита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Право испитаника да у току истраживања сачува свој интегритет мора увек да се поштуј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Морају се предузети све предострожности за заштиту приватности испитаника и за смањивање утицаја истраживања на физички и ментални интегритет и на личност испита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Риз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Доктори треба да избегавају учешће у истраживачким пројектима на људима уколико нису сигурни да су пратећи ризици у предвидивим оквири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Доктори треба да прекину свако истраживање уколико се испостави да су ризици већи од потенцијалне кори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Информисани пристан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Добровољ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Претходна пуна информисаност о користима и ризиц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Ако постоји здравствена оправданост може се обављати на људима само уз њихов писмени пристанак који дају у присуству свед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Пристанак се може у сваком тренутку повућ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о испитивање не сме се обављати ако је могућа опасност од примене лека већа од здравствене оправданости његовог испити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Информисани пристан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У сваком истраживању на људима,  сваки потенцијални испитаник мора бити адекватно информисан о циљевима, методима, очекиваној користи и потенцијалним ризицима испитивања, као и о непријатностима које оно може изазва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Он тако</a:t>
            </a:r>
            <a:r>
              <a:rPr b="0" lang="en-US" sz="2800" spc="-1" strike="noStrike">
                <a:solidFill>
                  <a:srgbClr val="def6f1"/>
                </a:solidFill>
                <a:latin typeface="Calibri"/>
                <a:ea typeface="Calibri"/>
              </a:rPr>
              <a:t>ђ</a:t>
            </a: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е мора бити информисан да има слободу да не учествује у истраживању и да може опозвати своју сагласност за учешћем у сваком тренутку. У том случају, доктор треба да добије његову одлуку, по могућству у писаној форми</a:t>
            </a:r>
            <a:r>
              <a:rPr b="0" lang="sr-Latn-CS" sz="2800" spc="-1" strike="noStrike">
                <a:solidFill>
                  <a:srgbClr val="def6f1"/>
                </a:solidFill>
                <a:latin typeface="Calibri"/>
                <a:ea typeface="Calibri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  <a:ea typeface="Calibri"/>
              </a:rPr>
              <a:t>Права испитаника и плацеб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ffffff"/>
                </a:solidFill>
                <a:latin typeface="Calibri"/>
                <a:ea typeface="Calibri"/>
              </a:rPr>
              <a:t>Користи, ризици, оптерећења и ефикасност нове интервенције одн. лечења морају да се упоређују са најбољом постојећом интервенцијом одн. лечењем осим у посебним случајевима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Calibri"/>
              </a:rPr>
              <a:t>Не постоји доказано корисна интевенција одн. л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Calibri"/>
                <a:ea typeface="Calibri"/>
              </a:rPr>
              <a:t>Постоје јасни научни и методолошки разлози да се коришчење најбоље постојеће интервенције одн. лечења изостави при ч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Calibri"/>
                <a:ea typeface="Calibri"/>
              </a:rPr>
              <a:t>Испитаници који не добијају најбољу постојећу интервенцију одн. лечење неће имати додатне ризике или иреверзибилна оштећења као резултат изостављања примене најбоље могуће итнервенције - леч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Вулнерабилни испитан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За лица која немају пословну способно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66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лица до 18 г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66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пунолетна лица која нису у стању да дају писмену сагласно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ff66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несвесно ст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ff66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ограничена физичка или психичка  способ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ff66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пристанак за  клиничко испитивање дају родитељи или старатељи, а он се не сме подстицати нуђењем или давањем било какве материјалне или друге кори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бра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o испитивaњe лeкoвa нe смe дa сe oбaвљa н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здрaвим лицимa кoja нису нaвршилa 18 гoдин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здрaвим трудницaмa и дojиљaм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лицимa кoja су смeштeнa у устaнoвe сoциjaлнe зaштит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лицимa кoja су смeштeнa у здрaвствeнe устaнoвe или у устaнoвe зa извршeњe кривичних сaнкциja, пo oдлуци судских oргaн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лицимa кoд кojих сe принудoм или нa други нaчин дeлoвaњa мoжe утицaти нa дaвaњe сaглaснoсти зa учeствoвaњe у клиничкoм испитивaњу и нa слoбoдaн пристaнaк зa учeствoвaњe у клиничкoм испитивaњ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ef6f1"/>
                </a:solidFill>
                <a:latin typeface="Calibri"/>
                <a:ea typeface="Calibri"/>
              </a:rPr>
              <a:t>Aкo je нeoпхoднo, пoд пoсeбним мeрaмa прeдoстрoжнoсти, клиничкo испитивaњe лeкa мoжe сe вршити и нa лицимa кoja нису нaвршилa 18 гoдинa, трудницaмa и дojиљaмa кojи су oбoлeли oд бoлeсти или су у стaњимa зa кoja je лeк кojи сe клинички испитуje нaмeњeн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ef6f1"/>
                </a:solidFill>
                <a:latin typeface="Calibri"/>
                <a:ea typeface="Calibri"/>
              </a:rPr>
              <a:t>Изузeтнo </a:t>
            </a:r>
            <a:r>
              <a:rPr b="0" lang="sr-RS" sz="17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а</a:t>
            </a:r>
            <a:r>
              <a:rPr b="0" lang="en-US" sz="1700" spc="-1" strike="noStrike">
                <a:solidFill>
                  <a:srgbClr val="def6f1"/>
                </a:solidFill>
                <a:latin typeface="Calibri"/>
                <a:ea typeface="Calibri"/>
              </a:rPr>
              <a:t>a испитивaњa мoгу сe вршити нa здрaвим лицимa кoja нису нaвршилa 18 гoдинa, aкo je тo у њихoвoм интeрeсу, уз писмeну сaглaснoст рoдитeљa, oднoснo стaрaтeљ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Легислати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ЗДРАВСТВЕНОЈ ЗАШТИТИ (Сл. гласник РС, бр. 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25/2019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ЛЕКОВИМА И МЕДИЦИНСКИМ СРЕДСТВИМА (Сл. гласник РС, бр. </a:t>
            </a:r>
            <a:r>
              <a:rPr b="0" lang="pl-PL" sz="2400" spc="-1" strike="noStrike">
                <a:solidFill>
                  <a:srgbClr val="def6f1"/>
                </a:solidFill>
                <a:latin typeface="Calibri"/>
                <a:ea typeface="Calibri"/>
              </a:rPr>
              <a:t>30/2010, 107/2012, 113/2017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,</a:t>
            </a:r>
            <a:r>
              <a:rPr b="0" lang="pl-PL" sz="2400" spc="-1" strike="noStrike">
                <a:solidFill>
                  <a:srgbClr val="def6f1"/>
                </a:solidFill>
                <a:latin typeface="Calibri"/>
                <a:ea typeface="Calibri"/>
              </a:rPr>
              <a:t> 105/2017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ПРАВИЛНИК О УСЛОВИМА И НАЧИНУ КЛИНИЧКОГ ИСПИТИВАЊА ЛЕКА, ПОСТУПЦИМА И САДРЖАЈУ ДОКУМЕНТАЦИЈЕ ЗА ОДОБРЕЊЕ КЛИНИЧКОГ ИСПИТИВАЊА ЛЕКА (Сл. гласник РС, бр. 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64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/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2011, 91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/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2013, 60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/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2016, 9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/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2018, 91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/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2018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СМЕРНИЦЕ ДОБРЕ КЛИНИЧКЕ ПРАКСЕ У КЛИНИЧКОМ ИСПИТИВАЊУ (Сл. гласник РС, бр. 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108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/20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17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ДОБРОБИТИ ЖИВОТИЊА (Сл. гласник РС, бр. 41/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 </a:t>
            </a:r>
            <a:r>
              <a:rPr b="0" lang="ru-RU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КОН</a:t>
            </a: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 O</a:t>
            </a:r>
            <a:r>
              <a:rPr b="0" lang="ru-RU" sz="3600" spc="-1" strike="noStrike">
                <a:solidFill>
                  <a:srgbClr val="def6f1"/>
                </a:solidFill>
                <a:latin typeface="Calibri"/>
                <a:ea typeface="Calibri"/>
              </a:rPr>
              <a:t> НАУЦИ И ИСТРАЖИВАЊ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Службени гласник РС, број 49 од 8. јула 2019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def6f1"/>
                </a:solidFill>
                <a:latin typeface="Calibri"/>
                <a:ea typeface="Calibri"/>
              </a:rPr>
              <a:t>Наука и истраживање су систематски стваралачки рад који се предузима ради стварања нових знања, с циљем подизања општег цивилизацијског нивоа друштва и коришћења тих знања у свим областима друштвеног развој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Истраживач</a:t>
            </a:r>
            <a:r>
              <a:rPr b="0" lang="en-US" sz="2700" spc="-1" strike="noStrike">
                <a:solidFill>
                  <a:srgbClr val="def6f1"/>
                </a:solidFill>
                <a:latin typeface="Calibri"/>
                <a:ea typeface="Calibri"/>
              </a:rPr>
              <a:t> </a:t>
            </a: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јесте лице са најмање високом стручном спремом, односно са најмање завршеним основним академским студијама, које ради на научноистраживачким и развојним пословима и које је изабрано у звање, у складу са законо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def6f1"/>
                </a:solidFill>
                <a:latin typeface="Calibri"/>
                <a:ea typeface="Calibri"/>
              </a:rPr>
              <a:t>Биомедицинска истраживањ</a:t>
            </a: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Проучавање одређених болести и стања (менталног или физичког), укључујући откривање, узрок, профилакса, лечење и рехабилитацију лиц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Дизајн метода, 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лекова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и 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редстава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који се користе за дијагнозу, подршку и одржавање поједин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ца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током и након третмана за специфичне болести или поремећај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Н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аучн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о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истраживањ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е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а циљем 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да 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е 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разуме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ју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основн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и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процес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и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 који утичу на живот и 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добробит људи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, укључујући области као што су ћелијске и молекуларне основе болести, генетика, имунологиј</a:t>
            </a: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fr-FR" sz="2000" spc="-1" strike="noStrike">
                <a:solidFill>
                  <a:srgbClr val="def6f1"/>
                </a:solidFill>
                <a:latin typeface="Calibri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Вр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а испитивањ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f6f1"/>
                </a:solidFill>
                <a:latin typeface="Calibri"/>
                <a:ea typeface="Calibri"/>
              </a:rPr>
              <a:t>лабораторијских испити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def6f1"/>
                </a:solidFill>
                <a:latin typeface="Calibri"/>
                <a:ea typeface="Calibri"/>
              </a:rPr>
              <a:t>проучавање излагањ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у</a:t>
            </a:r>
            <a:r>
              <a:rPr b="0" lang="fr-FR" sz="1800" spc="-1" strike="noStrike">
                <a:solidFill>
                  <a:srgbClr val="def6f1"/>
                </a:solidFill>
                <a:latin typeface="Calibri"/>
                <a:ea typeface="Calibri"/>
              </a:rPr>
              <a:t> 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штетностима </a:t>
            </a:r>
            <a:r>
              <a:rPr b="0" lang="fr-FR" sz="1800" spc="-1" strike="noStrike">
                <a:solidFill>
                  <a:srgbClr val="def6f1"/>
                </a:solidFill>
                <a:latin typeface="Calibri"/>
                <a:ea typeface="Calibri"/>
              </a:rPr>
              <a:t>животне среди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опасности од </a:t>
            </a:r>
            <a:r>
              <a:rPr b="0" lang="fr-FR" sz="1800" spc="-1" strike="noStrike">
                <a:solidFill>
                  <a:srgbClr val="def6f1"/>
                </a:solidFill>
                <a:latin typeface="Calibri"/>
                <a:ea typeface="Calibri"/>
              </a:rPr>
              <a:t>разних понаш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def6f1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def6f1"/>
                </a:solidFill>
                <a:latin typeface="Calibri"/>
                <a:ea typeface="Calibri"/>
              </a:rPr>
              <a:t>Извор: </a:t>
            </a:r>
            <a:r>
              <a:rPr b="0" lang="fr-FR" sz="1400" spc="-1" strike="noStrike">
                <a:solidFill>
                  <a:srgbClr val="def6f1"/>
                </a:solidFill>
                <a:latin typeface="Calibri"/>
                <a:ea typeface="Calibri"/>
              </a:rPr>
              <a:t>http://stats.oecd.org/glossary/detail.asp?ID=2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Организације НИ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Calibri"/>
                <a:ea typeface="Calibri"/>
              </a:rPr>
              <a:t>Организације које обављају научноистраживачку делат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f6f1"/>
                </a:solidFill>
                <a:latin typeface="Calibri"/>
                <a:ea typeface="Calibri"/>
              </a:rPr>
              <a:t>Институције од националног знача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f6f1"/>
                </a:solidFill>
                <a:latin typeface="Calibri"/>
                <a:ea typeface="Calibri"/>
              </a:rPr>
              <a:t>Институ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ef6f1"/>
                </a:solidFill>
                <a:latin typeface="Calibri"/>
                <a:ea typeface="Calibri"/>
              </a:rPr>
              <a:t>Високошколске уста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ef6f1"/>
                </a:solidFill>
                <a:latin typeface="Calibri"/>
                <a:ea typeface="Calibri"/>
              </a:rPr>
              <a:t>Одбор за етику у нау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f6f1"/>
                </a:solidFill>
                <a:latin typeface="Calibri"/>
                <a:ea typeface="Calibri"/>
              </a:rPr>
              <a:t>Кодекс понашања у научноистраживачком р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Наче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Слобода и аутономија научног и истраживачког рад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Јавност научног и истраживачког рада и резултата тог рада, у складу са законом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Научна и стручна критик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Поштовање стандарда науке и струк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Примена међународних стандарда и критеријума у вредновању квалитета научног и истраживачког рада у свакој области посебно, у односу на њену специфичност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Конкурентност и изврсност научних програма и пројекат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Етика научног и истраживачког рада, у складу са принципима добре научне пракс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Начела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Родна равноправност у науци и истраживањима, као и у органима одлучивањ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Повезаност са системом образовања а посебно са системом високог образовањ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Отвореност за међународну научну и технолошку сарадњу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Спровођење истраживачког рада у складу са принципима отворене наук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Брига за одрживи развој и заштиту животне средине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Оригиналност и аутентичност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Поштовање начела заштите и промета интелектуалне својин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ef6f1"/>
                </a:solidFill>
                <a:latin typeface="Calibri"/>
                <a:ea typeface="Calibri"/>
              </a:rPr>
              <a:t>Принцип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Научни рад је слободан и не подлеже никаквим ограничењима, осим оних који произлазе из поштовања стандарда науке и етичности у научном и истраживачком раду, заштите људских и мањинских права, заштите одбрамбених и безбедносних интереса, као и заштите животне средине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Научни рад подлеже научној критиц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Слобода научног рада и стваралаштва огледа се у слободи научног деловања, слободи избора и развоја научних метода истраживања и интерпретације, као и поштовања ауторских прав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здравственој зашти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Р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публик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 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к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o o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пшти инт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р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с у здр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вств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н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oj 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штити 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o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б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б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ђу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развој научноистраживачке делатности у области здравствене заштите;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 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финансирање примењених истраживања у области здравствене заштит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дравствене установе које обављају здравствену делатност на терцијарном и на више нивоа здравствене заштите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врше истраживање и предлажу увођење нових метода превенције, дијагностике, лечења, здравствене неге и рехабилитациј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в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o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д з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 ja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вн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o 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др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вљ</a:t>
            </a:r>
            <a:r>
              <a:rPr b="0" lang="en-US" sz="2400" spc="-1" strike="noStrike">
                <a:solidFill>
                  <a:srgbClr val="def6f1"/>
                </a:solidFill>
                <a:latin typeface="Calibri"/>
                <a:ea typeface="Calibri"/>
              </a:rPr>
              <a:t>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Врши истр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жив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њ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a 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у 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o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бл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сти 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ja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вн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o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г здр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1800" spc="-1" strike="noStrike">
                <a:solidFill>
                  <a:srgbClr val="def6f1"/>
                </a:solidFill>
                <a:latin typeface="Calibri"/>
                <a:ea typeface="Calibri"/>
              </a:rPr>
              <a:t>вљ</a:t>
            </a: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здравственој заштити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одбо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одбор је стручни орган који прати пружање и спровођење здравствене заштите на начелима професионалне етике, начелима поштовања људских права и вредности и права детета, као и кодекса понашања запослених у здравственој установ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def6f1"/>
                </a:solidFill>
                <a:latin typeface="Calibri"/>
                <a:ea typeface="Calibri"/>
              </a:rPr>
              <a:t>Чланови етичког одбора именују се из реда здравствених радника, односно здравствених сарадника, запослених у здравственој установ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def6f1"/>
                </a:solidFill>
                <a:latin typeface="Calibri"/>
                <a:ea typeface="Calibri"/>
              </a:rPr>
              <a:t>даје сагласност за спровођење научних истраживања у области здравства, медицинских истраживања, истраживања у области јавног здравља, као и да прати њихово спровођењ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def6f1"/>
                </a:solidFill>
                <a:latin typeface="Calibri"/>
                <a:ea typeface="Calibri"/>
              </a:rPr>
              <a:t>прати, анализира и даје мишљења о примени начела професионалне етике у превенцији, дијагностици, лечењу, здравственој нези, рехабилитацији, истраживању, као и о увођењу нових здравствених технологиј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здравственој заштити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одбор Србиј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прати спровођење научних, медицинских и истраживања у области јавног здравља у здравственим установама на територији Републике Србиј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даје мишљења о спорним етичким питањима која су од значаја за спровођење научних, медицинских и истраживања у области јавног здравља у здравственим установама у Републици Србиј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ef6f1"/>
                </a:solidFill>
                <a:latin typeface="Calibri"/>
                <a:ea typeface="Calibri"/>
              </a:rPr>
              <a:t>подноси годишњи извештај Министарству о спровођењу научних, медицинских и истраживања у области јавног здравља у здравственим установама на територији Републике Србије, као и о уоченим проблемима, недостацима и примедбама на рад етичких одбора у здравственим установа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лекови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o испитивaњe лeк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Зaштитa испитaникa у спрoвoђeњу клиничкoг испитивaњa лeк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Прaвa, бeзбeднoст и интeрeс испитaникa мoрajу бити приoритeтни у oднoсу нa интeрeс нaукe и друштвa у цeли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o испитивaњe лeкa мoрa дa будe тaкo плaнирaнo и спрoвeдeнo дa сe нa нajмaњу мoгућу мeру смaњи бoл, нeугoднoст, стрaх и билo кojи други прeдвидљив ризик пo здрaвљe испитaникa (прaг ризикa и стeпeн бoлa пoсeбнo сe дeфинишу и стaлнo нaдзиру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ef6f1"/>
                </a:solidFill>
                <a:latin typeface="Calibri"/>
                <a:ea typeface="Calibri"/>
              </a:rPr>
              <a:t>Бригa o испитaни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Toкoм спрoвoђeњa клиничкoг испитивaњa o испитaнику бринe и мeдицинскe oдлукe дoнoси лeкaр, oднoснo стoмaтoлoг, зaвиснo oд врстe клиничкoг испитивaњa лeк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Закон о лековима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Oгрaничeњa зa спрoвoђeњe клиничкoг испитивaњa лe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Зaштитa мaлoлeтних испитaникa у спрoвoђeњу клиничкoг испитивaњa лe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Пoвлaчeњe пристaнкa, oднoснo oдустajaњe мaлoлeтнoг лицa oд учeствoвaњa у клиничкoм испитивaњу лe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Зaштитa пунoлeтних лицa кoja нису у стaњу дa дajу писмeну сaглaснoст зa учeшћe у спрoвoђeњу клиничкoг испитивaњa лe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Пoвлaчeњe пристaнкa, oднoснo oдустajaњe пунoлeтнoг лицa oд учeствoвaњa у клиничкoм испитивaњу лe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ef6f1"/>
                </a:solidFill>
                <a:latin typeface="Calibri"/>
                <a:ea typeface="Calibri"/>
              </a:rPr>
              <a:t>Toкoм спрoвoђeњa клиничкoг испитивaњa лeкa, пунoлeтнo лицe кoje ниje у стaњу дa дa писмeни пристaнaк, a кoje je спoсoбнo дa фoрмирa мишљeњe и прoцeни инфoрмaциje кoje je дoбилo o учeшћу у клиничкoм испитивaњу лeкa мoжe у билo кoм трeнутку пoвући пристaнaк, oднoснo oдустaти oд клиничкoг испитивaњa лeкa, o чeму oбaвeштaвa глaвнoг истрaживaчa или члaнa истрaживaчкoг тим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аспекти генетских </a:t>
            </a: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студиј</a:t>
            </a: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def6f1"/>
                </a:solidFill>
                <a:latin typeface="Calibri"/>
                <a:ea typeface="Calibri"/>
              </a:rPr>
              <a:t>A</a:t>
            </a: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нализа г</a:t>
            </a: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ен</a:t>
            </a: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а</a:t>
            </a: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 у породичном стабл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Локализација и функција гена у циљној боле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Гени у д</a:t>
            </a: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ијагности</a:t>
            </a: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ци</a:t>
            </a: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 и скрининг</a:t>
            </a: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у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Генска 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Експерим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Експеримент је крајње редуковани део природе, дово</a:t>
            </a:r>
            <a:r>
              <a:rPr b="0" lang="sr-RS" sz="2800" spc="-1" strike="noStrike">
                <a:solidFill>
                  <a:srgbClr val="def6f1"/>
                </a:solidFill>
                <a:latin typeface="Calibri"/>
                <a:ea typeface="Calibri"/>
              </a:rPr>
              <a:t>љ</a:t>
            </a: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ан таман толико да се прихвати или одбаци нулта хипоте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Хипотеза – претпоставка за које не постоје дока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Нулта хипотеза – између посматраних група не постоји значајна разлика у посматраном обележ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све јединце посматрања припадају истом основном ску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Радна хипотеза – супротно од нулте хипоте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Генска 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def6f1"/>
                </a:solidFill>
                <a:latin typeface="Calibri"/>
                <a:ea typeface="Calibri"/>
              </a:rPr>
              <a:t>Додатак г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def6f1"/>
                </a:solidFill>
                <a:latin typeface="Calibri"/>
                <a:ea typeface="Calibri"/>
              </a:rPr>
              <a:t>Гени као лек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def6f1"/>
                </a:solidFill>
                <a:latin typeface="Calibri"/>
                <a:ea typeface="Calibri"/>
              </a:rPr>
              <a:t>век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def6f1"/>
                </a:solidFill>
                <a:latin typeface="Calibri"/>
                <a:ea typeface="Calibri"/>
              </a:rPr>
              <a:t>Супресија г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def6f1"/>
                </a:solidFill>
                <a:latin typeface="Calibri"/>
                <a:ea typeface="Calibri"/>
              </a:rPr>
              <a:t>Некодирајуће нуклеинск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def6f1"/>
                </a:solidFill>
                <a:latin typeface="Calibri"/>
                <a:ea typeface="Calibri"/>
              </a:rPr>
              <a:t>стратегије допрем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def6f1"/>
                </a:solidFill>
                <a:latin typeface="Calibri"/>
                <a:ea typeface="Calibri"/>
              </a:rPr>
              <a:t>Репарирање г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def6f1"/>
                </a:solidFill>
                <a:latin typeface="Calibri"/>
                <a:ea typeface="Calibri"/>
              </a:rPr>
              <a:t>аутологне, кориговане ћелије као лек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def6f1"/>
                </a:solidFill>
                <a:latin typeface="Calibri"/>
                <a:ea typeface="Calibri"/>
              </a:rPr>
              <a:t>Онколитичка вирусна 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def6f1"/>
                </a:solidFill>
                <a:latin typeface="Calibri"/>
                <a:ea typeface="Calibri"/>
              </a:rPr>
              <a:t>реплицирајући вируси као лек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аспек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ef6f1"/>
                </a:solidFill>
                <a:latin typeface="Calibri"/>
                <a:ea typeface="Calibri"/>
              </a:rPr>
              <a:t>Регулаторни надоз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ef6f1"/>
                </a:solidFill>
                <a:latin typeface="Calibri"/>
                <a:ea typeface="Calibri"/>
              </a:rPr>
              <a:t>Поверљивост и приватнос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ef6f1"/>
                </a:solidFill>
                <a:latin typeface="Calibri"/>
                <a:ea typeface="Calibri"/>
              </a:rPr>
              <a:t>Приступ подацима и узорц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ef6f1"/>
                </a:solidFill>
                <a:latin typeface="Calibri"/>
                <a:ea typeface="Calibri"/>
              </a:rPr>
              <a:t>Информисани приста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ef6f1"/>
                </a:solidFill>
                <a:latin typeface="Calibri"/>
                <a:ea typeface="Calibri"/>
              </a:rPr>
              <a:t>Доступност ле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def6f1"/>
                </a:solidFill>
                <a:latin typeface="Calibri"/>
                <a:ea typeface="Calibri"/>
              </a:rPr>
              <a:t>Одговорности лек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Посебни етички аспек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Притисак на чланове</a:t>
            </a:r>
            <a:r>
              <a:rPr b="0" lang="sr-CS" sz="3400" spc="-1" strike="noStrike">
                <a:solidFill>
                  <a:srgbClr val="def6f1"/>
                </a:solidFill>
                <a:latin typeface="Calibri"/>
                <a:ea typeface="Calibri"/>
              </a:rPr>
              <a:t> породиц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Социјална стигма и дискриминациј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Неочекивани налази (нпр. очинство)</a:t>
            </a:r>
            <a:r>
              <a:rPr b="0" lang="ar-SA" sz="3400" spc="-1" strike="noStrike">
                <a:solidFill>
                  <a:srgbClr val="def6f1"/>
                </a:solidFill>
                <a:latin typeface="Calibri"/>
              </a:rPr>
              <a:t>‏</a:t>
            </a:r>
            <a:r>
              <a:rPr b="0" lang="ar-SA" sz="3400" spc="-1" strike="noStrike">
                <a:solidFill>
                  <a:srgbClr val="def6f1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Процена реалног ризика добијених резултат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Дискриминација од стране осигурања и послодавц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9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Могућност греша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ef6f1"/>
                </a:solidFill>
                <a:latin typeface="Calibri"/>
                <a:ea typeface="Calibri"/>
              </a:rPr>
              <a:t>Обележавање података и узор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Персонални идентификатор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def6f1"/>
                </a:solidFill>
                <a:latin typeface="Calibri"/>
                <a:ea typeface="Calibri"/>
              </a:rPr>
              <a:t>Не препоручује се у клиничким студијам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Кодира</a:t>
            </a:r>
            <a:r>
              <a:rPr b="0" lang="sr-CS" sz="3400" spc="-1" strike="noStrike">
                <a:solidFill>
                  <a:srgbClr val="def6f1"/>
                </a:solidFill>
                <a:latin typeface="Calibri"/>
                <a:ea typeface="Calibri"/>
              </a:rPr>
              <a:t>ње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def6f1"/>
                </a:solidFill>
                <a:latin typeface="Calibri"/>
                <a:ea typeface="Calibri"/>
              </a:rPr>
              <a:t>Једноструки </a:t>
            </a: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код (један кључ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Д</a:t>
            </a:r>
            <a:r>
              <a:rPr b="0" lang="en-GB" sz="3100" spc="-1" strike="noStrike">
                <a:solidFill>
                  <a:srgbClr val="def6f1"/>
                </a:solidFill>
                <a:latin typeface="Calibri"/>
                <a:ea typeface="Calibri"/>
              </a:rPr>
              <a:t>воструки код</a:t>
            </a: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 (кодирање кода - два кључа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Анонимизован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def6f1"/>
                </a:solidFill>
                <a:latin typeface="Calibri"/>
                <a:ea typeface="Calibri"/>
              </a:rPr>
              <a:t>Кодира</a:t>
            </a: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ње, </a:t>
            </a:r>
            <a:r>
              <a:rPr b="0" lang="en-GB" sz="3100" spc="-1" strike="noStrike">
                <a:solidFill>
                  <a:srgbClr val="def6f1"/>
                </a:solidFill>
                <a:latin typeface="Calibri"/>
                <a:ea typeface="Calibri"/>
              </a:rPr>
              <a:t>а потом кључ кодова уништен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def6f1"/>
                </a:solidFill>
                <a:latin typeface="Calibri"/>
                <a:ea typeface="Calibri"/>
              </a:rPr>
              <a:t>Анонимни подац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def6f1"/>
                </a:solidFill>
                <a:latin typeface="Calibri"/>
                <a:ea typeface="Calibri"/>
              </a:rPr>
              <a:t>Без персоналних индикатора и кодов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Фаза планирања студиј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def6f1"/>
                </a:solidFill>
                <a:latin typeface="Calibri"/>
                <a:ea typeface="Calibri"/>
              </a:rPr>
              <a:t>Склад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циљеви студије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заштита безбедности и права на приватност испитаник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def6f1"/>
                </a:solidFill>
                <a:latin typeface="Calibri"/>
                <a:ea typeface="Calibri"/>
              </a:rPr>
              <a:t>Дефинисати генетичке термин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приредити их на језику разумљивом лаику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85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400" spc="-1" strike="noStrike">
                <a:solidFill>
                  <a:srgbClr val="def6f1"/>
                </a:solidFill>
                <a:latin typeface="Calibri"/>
                <a:ea typeface="Calibri"/>
              </a:rPr>
              <a:t>Протоколом дефинисати ситуације када се подаци повезују са датим испитанико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Права испитани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Да се повуче из студиј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Да повуче сагласност за даља испитивања својих узорак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Да испитаник и/или његов лекар добију повратне информације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7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100" spc="-1" strike="noStrike">
                <a:solidFill>
                  <a:srgbClr val="def6f1"/>
                </a:solidFill>
                <a:latin typeface="Calibri"/>
                <a:ea typeface="Calibri"/>
              </a:rPr>
              <a:t>Да повуче сагласност за даље чување и анализу својих  узорак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само ако је могућа идентифик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подаци који су добијени до повлачења сагласности могу се користити без новог пристан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Информисани пристана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Начин узимања узо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Однос учешћа у испитивању лека и учешћа у фармакогеномском истраживањ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Трајање чувања узо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Начин уништавања узор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Генерисање и поступак са ћелијским култура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Повезивање података са идентите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Обележавање узорака и подат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Процедуре за разоткри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Информисани пристанак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Додатне анализе или узор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са или без поновне сагласност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зависно од природе и ширине циљева студи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lnSpc>
                <a:spcPct val="80000"/>
              </a:lnSpc>
              <a:spcBef>
                <a:spcPts val="575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аспекти сагласности у првом пристанк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Однос са трећим лиц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критеријуми за коришћење подата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карактеристике корисни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нацинални или међународн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тип (академски, непрофитни, комерцијални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потенцијално недефинисани корисниц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36520">
              <a:lnSpc>
                <a:spcPct val="80000"/>
              </a:lnSpc>
              <a:spcBef>
                <a:spcPts val="624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def6f1"/>
                </a:solidFill>
                <a:latin typeface="Calibri"/>
                <a:ea typeface="Calibri"/>
              </a:rPr>
              <a:t>ризици по испитаник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Информисани пристанак (3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Власнички односи банке узора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Комерцијална употре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2860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интелектуална свој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Компензације испитан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Однос личне и опште кори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Могућност контактирања у будућн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Етички аспекти генетских студија у препознатљивој заједн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Специфично се препознаје у публикацијама, презентацијама или другим исходиштима 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Биолошка срод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Географска диспер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Социјалне интер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Културне вред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Искуства прошл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ef6f1"/>
                </a:solidFill>
                <a:latin typeface="Calibri"/>
                <a:ea typeface="Calibri"/>
              </a:rPr>
              <a:t>Фазе научног мет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1. 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Селекција испита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тудијски узор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татистичка анализа прикупљених подат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резулт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2. 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акључивање о попула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генерализација резултата на попула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утврђивање повеза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def6f1"/>
                </a:solidFill>
                <a:latin typeface="Calibri"/>
                <a:ea typeface="Calibri"/>
              </a:rPr>
              <a:t>3. </a:t>
            </a: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Закључивање о научној теор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разматрање каузалитета (узрочно-последичне повезанос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def6f1"/>
                </a:solidFill>
                <a:latin typeface="Calibri"/>
                <a:ea typeface="Calibri"/>
              </a:rPr>
              <a:t>Консултација заједни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Заинтересованос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Утицај крајњег исхода студије за репутацију заједниц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Дизајн према специфи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ч</a:t>
            </a: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ним карактеристикам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Ранија искуства заједнице са истраживањим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Социјална структур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Идентификовати индвидуе и груп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Баланс интереса </a:t>
            </a:r>
            <a:r>
              <a:rPr b="0" lang="sr-RS" sz="3000" spc="-1" strike="noStrike">
                <a:solidFill>
                  <a:srgbClr val="def6f1"/>
                </a:solidFill>
                <a:latin typeface="Calibri"/>
                <a:ea typeface="Calibri"/>
              </a:rPr>
              <a:t>истраживања, </a:t>
            </a:r>
            <a:r>
              <a:rPr b="0" lang="sr-CS" sz="3000" spc="-1" strike="noStrike">
                <a:solidFill>
                  <a:srgbClr val="def6f1"/>
                </a:solidFill>
                <a:latin typeface="Calibri"/>
                <a:ea typeface="Calibri"/>
              </a:rPr>
              <a:t>појединца и заједниц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Calibri"/>
                <a:ea typeface="Calibri"/>
              </a:rPr>
              <a:t>Закључ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ffffff"/>
                </a:solidFill>
                <a:latin typeface="Calibri"/>
                <a:ea typeface="Calibri"/>
              </a:rPr>
              <a:t>Савремени системи, стандарди и правне норме истраживачке етике значајно доприносе успесима модерне медицине у дијагнози, превенцији и лечењу обољења и стања људи који нарушавају њихов интегритет и општу добробит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ffffff"/>
                </a:solidFill>
                <a:latin typeface="Calibri"/>
                <a:ea typeface="Calibri"/>
              </a:rPr>
              <a:t>Права и добробити особе која учествује у клиничком истраживању остају централни етички принцип садашње и будуће експерименталне медици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ffffff"/>
                </a:solidFill>
                <a:latin typeface="Calibri"/>
                <a:ea typeface="Calibri"/>
              </a:rPr>
              <a:t>Заштита интегритета и добробити вулнерабилних популација и развој нових научних и здравствених технологија су важни будући изазови за поље истраживачке етике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  <a:ea typeface="Calibri"/>
              </a:rPr>
              <a:t>.</a:t>
            </a:r>
            <a:r>
              <a:rPr b="0" lang="sr-RS" sz="25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Општи план истраживања - дизај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Интервентни</a:t>
            </a:r>
            <a:r>
              <a:rPr b="0" lang="sr-Latn-CS" sz="2800" spc="-1" strike="noStrike">
                <a:solidFill>
                  <a:srgbClr val="def6f1"/>
                </a:solidFill>
                <a:latin typeface="Calibri"/>
                <a:ea typeface="Calibri"/>
              </a:rPr>
              <a:t> (</a:t>
            </a: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експериментал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са или без контролн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са или без случајног одабира (рандомизац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рандомизована контролисана студ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Опсерваци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Аналитички (са контролном груп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контрола-случај 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(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“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case-control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”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студија пресека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 (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“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cross-sectional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”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кохорнта студија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 (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“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cohort</a:t>
            </a:r>
            <a:r>
              <a:rPr b="0" lang="sr-Latn-CS" sz="2000" spc="-1" strike="noStrike">
                <a:solidFill>
                  <a:srgbClr val="def6f1"/>
                </a:solidFill>
                <a:latin typeface="Calibri"/>
                <a:ea typeface="Calibri"/>
              </a:rPr>
              <a:t>”</a:t>
            </a:r>
            <a:r>
              <a:rPr b="0" lang="en-US" sz="2000" spc="-1" strike="noStrike">
                <a:solidFill>
                  <a:srgbClr val="def6f1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Дескрипти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без контролне гру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приказ случаја или серија болес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Типови истражив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Преклиничка истраж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у лабораторији и на животињ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а истраж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на људ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фаза 1: мали број здрав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подношљивост и фармакокине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фаза 2: мали број оболел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ефикасност и безбедност у поређењу са плацеб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фаза 3: већи број оболел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def6f1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def6f1"/>
                </a:solidFill>
                <a:latin typeface="Calibri"/>
                <a:ea typeface="Calibri"/>
              </a:rPr>
              <a:t>ефикасност и безбедност у поређењу са постојећим лечењ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Претклиничко истражива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Делотворност (ефикаснос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молекуларни ниво: студије везивања за рецеп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ћелијски ниво: култура ћел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ниво органа: изоловани иле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ниво система органа: анимални ин виво о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ef6f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def6f1"/>
                </a:solidFill>
                <a:latin typeface="Calibri"/>
                <a:ea typeface="Calibri"/>
              </a:rPr>
              <a:t>Безбед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Токсичност (акутна, субакутна, хронич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Тератоге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Карциноге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def6f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Мутаге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о истражива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о испитивање лекова је испитивање које се врши на људима у циљу утврђивања или потврђивања клиничких, фармаколошких, фармакодинамских дејстава једног или више испитиваних лекова, идентификације сваке нежељене реакције на један или више испитиваних лекова, испитивање ресорпције, дистрибуције, метаболизма и излучивања једног или више лекова са циљем утврђивања његове безбедности или ефик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66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def6f1"/>
                </a:solidFill>
                <a:latin typeface="Calibri"/>
                <a:ea typeface="Calibri"/>
              </a:rPr>
              <a:t>Клиничко испитивање лекова се обавља у складу са смерницама Добре клиничке праксе (ДКП) у клиничким испитивањ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User</cp:lastModifiedBy>
  <dcterms:modified xsi:type="dcterms:W3CDTF">2020-09-26T17:27:36Z</dcterms:modified>
  <cp:revision>54</cp:revision>
  <dc:subject/>
  <dc:title>Slide 1</dc:title>
</cp:coreProperties>
</file>